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A5D-DBAF-46CA-828F-9F9D2138DFF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E83-A81D-4DEB-BC78-CB4AC346C94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39E-B693-46BB-93FE-E0CDE196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1F1-E856-4AD0-8895-ECD0900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B0E-BD60-4E41-BB04-28439BF9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378-9A6C-4245-A229-51485977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280-E063-4A75-A9B8-4ECD7794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EFE-ADE7-4415-B72A-E14FA57E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049-C00F-4198-9128-06FA100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123-1C4A-4553-97C0-4F3729F2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F66-45FF-4E20-B227-02A31C7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C23-6C2E-468B-8A05-E0A407E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A3F-FD61-4CA8-877C-222D757D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883-B123-46E3-89F0-3A26D10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E87-EBB7-4FF3-9BCE-CBAA0280D37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upload.wikimedia.org/wikipedia/commons/3/3f/Bangladesh_divisions_englis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and Contras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nalyze similarities and differences between two things (people, places, events, ideas, etc.), by placing individual characteristics in either the left or right sections, and common characteristics within the overlapping 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Venn"/>
          <p:cNvPicPr/>
          <p:nvPr/>
        </p:nvPicPr>
        <p:blipFill>
          <a:blip r:embed="rId1"/>
          <a:stretch/>
        </p:blipFill>
        <p:spPr>
          <a:xfrm>
            <a:off x="2000160" y="3300480"/>
            <a:ext cx="49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-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o analyze similarities and differences between two things (people, places, events, ideas, etc.), by placing individual characteristics in either the left or right s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T-Chart+-"/>
          <p:cNvPicPr/>
          <p:nvPr/>
        </p:nvPicPr>
        <p:blipFill>
          <a:blip r:embed="rId1"/>
          <a:stretch/>
        </p:blipFill>
        <p:spPr>
          <a:xfrm>
            <a:off x="1928880" y="3000240"/>
            <a:ext cx="52862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Contrast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o show similarities and differences between two things. Key frame question: What things are being compared? How are they similar? How are they differ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ompareContrast"/>
          <p:cNvPicPr/>
          <p:nvPr/>
        </p:nvPicPr>
        <p:blipFill>
          <a:blip r:embed="rId1"/>
          <a:stretch/>
        </p:blipFill>
        <p:spPr>
          <a:xfrm>
            <a:off x="1571760" y="3000240"/>
            <a:ext cx="592920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10) Venn dia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, D.C. &amp; Toky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 a T-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Compare/Contrast Matri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inion essay v.s. Comparative ess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428840"/>
          <a:ext cx="8229600" cy="5176800"/>
        </p:xfrm>
        <a:graphic>
          <a:graphicData uri="http://schemas.openxmlformats.org/drawingml/2006/table">
            <a:tbl>
              <a:tblPr/>
              <a:tblGrid>
                <a:gridCol w="1512720"/>
                <a:gridCol w="3262320"/>
                <a:gridCol w="3454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 ess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 es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esent writer’s point of view on a particular subject supported by reasons and examp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scribe the qualities of a subject or idea by discussing the similarities and differences it shares with a different subject or ide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vince the reader of a point of view on a controversial iss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help others understand something by finding similarities and then by finding differ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Pro-Pro-Cons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ons-Pro-Pro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[Cons-Pro]x3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Point-to-point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hole-to-whol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Similarity-differenc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Writing skills of two types of genres could be integrated  togethe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Write a three-to-four-paragraph essay (roughly 250 words). Compare and contrast two ideas raised in each topic statement, and decide which stand you pref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people prefer to live in a small town. Others prefer to live in a big city. Which place would you prefer to live in? Use specific reasons and details to support your answer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ttending a live performance (for example, a play, concert, or sporting event) is more enjoyable than watching the same event on television.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you agree or disagree with the statement? Use specific reasons and examples to support your opin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mparison &amp; Contrast Ess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wo things is to find similarities between them, whil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ntras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wo things is to fi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to help other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mething by find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ilar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n by find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e comparisons can help readers see image or idea in a new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p.10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hammad Yunus (Banglades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2006, Yunus and Grameen Bank were jointly awarded the Nobel Peace Prize, "for their efforts to create economic and social development from below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圖片 3" descr="150px-Muhammad_Yunus_2.jpg"/>
          <p:cNvPicPr/>
          <p:nvPr/>
        </p:nvPicPr>
        <p:blipFill>
          <a:blip r:embed="rId2"/>
          <a:stretch/>
        </p:blipFill>
        <p:spPr>
          <a:xfrm>
            <a:off x="714240" y="4071960"/>
            <a:ext cx="2113200" cy="249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The Norwegian Nobel Committee logotype"/>
          <p:cNvPicPr/>
          <p:nvPr/>
        </p:nvPicPr>
        <p:blipFill>
          <a:blip r:embed="rId3"/>
          <a:stretch/>
        </p:blipFill>
        <p:spPr>
          <a:xfrm>
            <a:off x="3143160" y="4071960"/>
            <a:ext cx="157176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age:Bangladesh divisions englis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57880" y="1714680"/>
            <a:ext cx="3552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two objects does the author compa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s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tw professors and students different at the U. of Colorado than it was at Chittagong U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Yunus react to the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young female stu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Colorado? 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opinion, has students’ behavior changed over the last forty years or has it stayed the sa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mparative essay describe the qualities of a subject or idea by discussing the similarities and differences it shares with a different subject or id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int-by-point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feature at a time for both similarities and differ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Whole-by-whol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amines one object/idea as a whole and then the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imilarity-and-difference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esents all of the similarities between the two things, and then the differences (or vice vers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1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 for point-by-point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ic sent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s the point of comparison or contrast btw two su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quence transi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furtherm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re often used to connect the point-by-point analy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 for similarities and differences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ic sent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paragraph is devoted t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milar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other is devoted t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iffer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. 112) A Walk on Sunday Afternoon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subjects to be compared and contrasted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hesis stateme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type of essay is this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opic sentence of the first body paragraph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the topic sentence of the second body paragraph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 sentences in the conclusion summarize the main points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by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e objects w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ng both similaritie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introdu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 the sequence of paragraphs in the main body of the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the conclu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&amp; Ed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Prewri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e objects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ng both similarities and dif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/Contrast Matr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7:36:17Z</dcterms:created>
  <dc:creator>Windows 使用者</dc:creator>
  <dc:description/>
  <dc:language>en-US</dc:language>
  <cp:lastModifiedBy>Windows 使用者</cp:lastModifiedBy>
  <dcterms:modified xsi:type="dcterms:W3CDTF">2009-05-09T16:36:08Z</dcterms:modified>
  <cp:revision>35</cp:revision>
  <dc:subject/>
  <dc:title>投影片 1</dc:title>
</cp:coreProperties>
</file>